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C9D-6EB2-4D64-9C21-67F54DDDE6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A292-073B-456B-9F4A-30BDF6F3C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6DB-3689-4F47-AD8D-5416FCC35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965-1392-4B81-9E15-027689D04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2257-9F16-4FBD-8381-6B72078E3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DB6-8A20-4870-AF68-E765F4864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B950-003C-42B2-82F5-6F66515EA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264C-892E-4303-9A49-AD6E426515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EA5-9775-44FF-86DA-6695D004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D51-20E2-4477-BAF9-5C18514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E6F-83FE-49CE-9C8B-E4D773CA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849-017F-4728-A74F-D80A8B48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E4C0-9AA5-4C61-81F3-52F925B0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88D6-F22D-47DD-931E-A36CA08E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E0EB-2B31-42EF-BBDB-E48BE031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ECB-D055-498D-86C0-9C309A70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9331-BCA8-4504-8701-519406F1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5EF6-8F6D-41B2-A3EF-1E08807C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A4C1-AE96-433E-BF93-CAFBBF6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547F-9423-446B-A15A-7BA84B86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30FC-FF0F-46A1-97B6-162794B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38E-9DD4-4E35-9DA3-4A97C75C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9B97-49E7-442A-9B1F-2EC76E11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51B-1B0D-461C-8ABA-2573AA25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61CA-91B1-4C8F-9775-006B5FEB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343-CDB4-46ED-96DD-CAE0863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E52-5FA7-471B-8779-49919D2A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232-1146-482F-A346-99350E95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8A0-8F53-46BF-AC51-8AFF572B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332-7E56-40B4-8791-2831BE4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1FD-ECB1-4145-A645-545E6BA2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ECB-B04F-403B-A18A-A7DC0C3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EB90-C158-4011-91B2-BEB41E846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9CDA-493E-42B8-B037-B4DFA13591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Python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Алфавит, переменные, типы данны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, выводящую на экран три стоки: ваше имя, дату рождения, клас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c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еня зовут 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родился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Я учусь в 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6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строки в  числа: “36768”,”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”,”12,56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йте дробные числа в целые 34, 78;                                                                 9, 23 ;                                                                 101, 29754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4360" y="333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ычислите площадь комнаты шириной 8,5 м и длинной 12 м, используя переменные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l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irina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losad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шите программу перевода температуры из шкалы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Фаренгейта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в шкалу Цельсия по формуле C = 5 / 9 * (F - 32). Исходной температурой считать температуру воздуха на улице.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33336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интерактивном режиме вычислите количество минут в неделе. Результат сохраните в переменной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nuti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писать программу вычисления времени в пути, если вы проехали 200 км со скоростью 80 км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Vremay_pyti.p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амените в программе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mper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py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формулу, что вы получите в результат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float(5 / 9 * (F – 32)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5 / 9 * float(F– 3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Язык программирования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Python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имеет собственный алфавит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, 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состоящий из: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атинских букв(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,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Цифр (от 0 до 9)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ециальных знаков (+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-, (, [, {,;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ужебных слов (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int, if, input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еременная (имя переменной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 написании программы для переменной величины вводятся обозначения (также как и в математике). Такое обозначение называют именем величин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336666"/>
                </a:solidFill>
                <a:latin typeface="Arial"/>
              </a:rPr>
              <a:t>Имя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это слово из букв, цифр и знаков подчеркивания, начинающихся с буквы. Имя также называют переменной или именем переменной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имер: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Arial Black"/>
              </a:rPr>
              <a:t>Нельзя!!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y_program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koroSt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aaaaaaa_bbbbbbbbb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o3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Super-star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day of week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7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АЧЕСТВЕ ИМЕНИ ПЕРЕМЕННОЙ НЕЛЬЗЯ ИСПОЛЬЗОВАТЬ СЛУЖЕБНЫЕ СЛОВА!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, if, inpu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 переменно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ое имя 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ует некоторой ячейке памяти, куда записываются значения переменной величины.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инамическая типизация, т.е. во  время присваивания переменной какого-либо значения интерпретатор автоматически относит переменную к одному из типов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9608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данных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1125360"/>
          <a:ext cx="7696440" cy="5048280"/>
        </p:xfrm>
        <a:graphic>
          <a:graphicData uri="http://schemas.openxmlformats.org/drawingml/2006/table">
            <a:tbl>
              <a:tblPr/>
              <a:tblGrid>
                <a:gridCol w="2657520"/>
                <a:gridCol w="2473560"/>
                <a:gridCol w="256536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данны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ь на яз. </a:t>
                      </a: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thon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 -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е числ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a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 -2</a:t>
                      </a:r>
                      <a:r>
                        <a:rPr b="1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ка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6”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ивы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, 654, 75]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атематические операции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0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работа с числами используются 6 математических операци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ждение остатка от делен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0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 3 =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деление нацело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11 div 3 =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Изменение типа данных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ля преобразования типов данных предназначены следующие функции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()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еобразует строку или число с с плавающей точкой в цело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str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преобразует переданный ей аргумент в строку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float()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- в дробное числ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4360" y="1197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жение         Результа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56”)                                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4.03)                                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 (“comp 486”)                 O ш и б к 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56)                                   '56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tr (4.03)                                '4.03'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56)   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float (“56”)                               5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1:19:36Z</dcterms:created>
  <dc:creator>Натуля</dc:creator>
  <dc:description/>
  <dc:language>en-US</dc:language>
  <cp:lastModifiedBy>Наталья</cp:lastModifiedBy>
  <dcterms:modified xsi:type="dcterms:W3CDTF">2011-03-08T12:16:35Z</dcterms:modified>
  <cp:revision>15</cp:revision>
  <dc:subject/>
  <dc:title>Язык программирования Pascal</dc:title>
</cp:coreProperties>
</file>